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F2B-E3A8-4885-9DE8-BA06C186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AB7-EBD5-4328-BDD8-37DFE38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17A-ED60-48DC-8FF6-B3CCAB62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B9E-17AD-435B-9C71-AB489634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7BE-9895-4062-B790-78D28C0F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221-9278-4DBB-BF32-5B0B9D6E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77F-D20B-462A-BDD1-9B924FA5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D13-6FF4-4CA9-8DF3-79D6B87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29B-B6B6-4EDB-9F8D-B499F16F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211-D7B5-44E2-B240-AAC9115F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F80-5BF9-4FD6-8EB1-12D1E2A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B08-DF16-42D3-ACE4-0AE4826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300-A72A-4B8B-B1CA-4CC8F1837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80880" y="609480"/>
            <a:ext cx="26672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SECO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80880" y="236232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88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MILY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6"/>
          <p:cNvSpPr/>
          <p:nvPr/>
        </p:nvSpPr>
        <p:spPr>
          <a:xfrm>
            <a:off x="168120" y="-647640"/>
            <a:ext cx="24768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0"/>
          <p:cNvSpPr/>
          <p:nvPr/>
        </p:nvSpPr>
        <p:spPr>
          <a:xfrm>
            <a:off x="168120" y="-754200"/>
            <a:ext cx="1571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4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6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8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0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80880" y="6094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52280" y="2363760"/>
            <a:ext cx="31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2696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AL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9:14:23Z</dcterms:created>
  <dc:creator>Hutto ISD</dc:creator>
  <dc:description/>
  <dc:language>en-US</dc:language>
  <cp:lastModifiedBy>lottun</cp:lastModifiedBy>
  <cp:lastPrinted>2010-09-16T02:03:23Z</cp:lastPrinted>
  <dcterms:modified xsi:type="dcterms:W3CDTF">2010-12-09T20:18:44Z</dcterms:modified>
  <cp:revision>31</cp:revision>
  <dc:subject/>
  <dc:title>No Slide Title</dc:title>
</cp:coreProperties>
</file>